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CB1-289C-48F9-9D0F-E6C1D4EE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8256-D4BF-42B6-A754-A813644D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7746-63C4-41AF-84A7-78C28221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F9C4-25E2-4BEC-8EA0-0BD290C5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74F5-D0DA-463C-879D-F694F5F1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5429-D134-4C29-8F2E-E5F0DA98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C1AE-72D4-4099-B3B0-8538516C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C92A-2D61-4F5B-83C7-D9B1A42D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C531-BD06-44B8-BA8F-9F207632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E476-D0C1-4C9D-A47C-8A90EE3D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F554-83E6-483B-9F76-D432E931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5961-DC5D-4EA5-8CBD-3BFE3926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75F3-D633-4793-ABF3-62204B8D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425A-450C-4C19-80EC-F3E20E3B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191A-FB13-4F66-8A4F-53612446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3B59-CFAF-4B99-AE84-2C033EC4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DF91-1EB9-4915-89B0-6A1E7501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9699-49F7-4476-AD13-16E327AC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0099-C017-419B-A3CE-383FEA72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DF24-A81F-4BF8-8771-4DB84C6F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D13A-F809-4563-8DAF-CBAFCD64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8D16-806F-4777-8867-8BE9AF26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DBED-1139-4542-B9E0-1E466103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8B6E-FC93-4BBA-800D-4538502E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8387-D683-435A-8549-24E8229F22FB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FB83-75C7-47FD-8EBE-EF3D9892621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Зачем и как люди заботятся о почве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полнила: Мартышева Л. П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ТЕСТ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ТЕМА:  «ЧТО ТАКОЕ ПОЧВА?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ФАМИЛИЯ, ИМЯ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________________________________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1. Что такое почва? Обведи  нужную букву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а) это верхний слой земли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б) это вещество черного или серого цвета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в) это верхний плодородный слой земли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2. Из чего состоит почва? Обведи кружком буквы правильных ответов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а) минеральные соли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б) микробы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в) руда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г) глина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д) песок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е) перегной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ж) вода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3. Что растения получают из почвы? Обведи нужную букву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а) останки растений и животных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б) бактерии и микробы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в) воздух, воду, соли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4. Что влияет на плодородие почвы? Обведи нужную букву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а) наличие в почве  перегноя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б) наличие в почве воды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в) наличие в почве песка и глины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5. Из чего в почве образуется перегной? Обведи нужную букву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а) из песка и глины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б) из воды и воздуха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в) из остатков растений и животных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2276640" cy="14288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611280" y="177336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684360" y="407664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3419640" y="177336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6"/>
          <a:stretch/>
        </p:blipFill>
        <p:spPr>
          <a:xfrm>
            <a:off x="3419640" y="4076640"/>
            <a:ext cx="2019240" cy="14288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7"/>
          <a:stretch/>
        </p:blipFill>
        <p:spPr>
          <a:xfrm>
            <a:off x="5796000" y="1773360"/>
            <a:ext cx="2457360" cy="14284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8"/>
          <a:stretch/>
        </p:blipFill>
        <p:spPr>
          <a:xfrm>
            <a:off x="6588000" y="4149720"/>
            <a:ext cx="1438560" cy="14288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9"/>
          <a:stretch/>
        </p:blipFill>
        <p:spPr>
          <a:xfrm>
            <a:off x="6012000" y="18900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Землю уважай, она дает урожа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Земля - кормилиц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Земля заботу любит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Кто землю лелеет, того земля жалеет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Picture 2" descr="плодородная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Picture 2" descr="плодородная земля1"/>
          <p:cNvPicPr/>
          <p:nvPr/>
        </p:nvPicPr>
        <p:blipFill>
          <a:blip r:embed="rId1"/>
          <a:srcRect l="0" t="6299" r="0" b="94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1" name="Picture 2" descr="минеральные удобре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Picture 2" descr="защит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Picture 2" descr="снегозадержа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6436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Перекопка, рыхле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Удобре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3. Снегозадерж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4. Лесозащитные полос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2" name="Picture 2" descr="цвет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Овраг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Сильные ветр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3. Вод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4. Ядохимикат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5. Мусор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16:24:29Z</dcterms:created>
  <dc:creator>Basil</dc:creator>
  <dc:description/>
  <dc:language>en-US</dc:language>
  <cp:lastModifiedBy>Basil</cp:lastModifiedBy>
  <dcterms:modified xsi:type="dcterms:W3CDTF">2015-02-19T13:25:08Z</dcterms:modified>
  <cp:revision>29</cp:revision>
  <dc:subject/>
  <dc:title>Слайд 1</dc:title>
</cp:coreProperties>
</file>